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D47-6733-4309-8BB0-085FD5A2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0CE-DA96-4C9E-86A3-9BC50B3A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ADF-9360-4CBA-B026-153EB686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6CA-A790-4FC3-AECB-8D3185D5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96A-06A7-4D1F-9DEB-93FC8D46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6C1-18E2-4C30-B024-C4A68835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758-7C51-4C8A-A958-CCA02CD4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79E-BF52-41ED-9AE4-11938A3B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962-F6DF-4105-926A-E3A42573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CAE-24B5-44E5-83B0-01E7A453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374-FCDF-44D1-8964-E4D81628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C17-A4DA-4851-8A98-940619C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F79F-1466-45AD-ABF4-F444138086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358128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à utiliser la relation de Pythagore!!!</a:t>
            </a:r>
            <a:endParaRPr b="0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243828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Marker Felt"/>
              </a:rPr>
              <a:t>Tu es maintenant plus habile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Marker Felt"/>
              <a:ea typeface="Marker Fel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2520" y="4753080"/>
            <a:ext cx="5181480" cy="233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133360" cy="203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52480" y="762120"/>
            <a:ext cx="5334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halkboard"/>
              </a:rPr>
              <a:t>Bravo!!!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halkboard"/>
              <a:ea typeface="Chalkboar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62920" y="15228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8:04Z</dcterms:created>
  <dc:creator>LAMISS</dc:creator>
  <dc:description/>
  <dc:language>en-US</dc:language>
  <cp:lastModifiedBy>LAMISS</cp:lastModifiedBy>
  <dcterms:modified xsi:type="dcterms:W3CDTF">2008-04-08T16:09:23Z</dcterms:modified>
  <cp:revision>2</cp:revision>
  <dc:subject/>
  <dc:title>Présentation PowerPoint</dc:title>
</cp:coreProperties>
</file>